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CD10-2621-453F-B50F-CC4411471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4D12-77CA-4132-A616-330CFCA67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9A30-38AA-4AF7-8607-99FF89D3A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8619-83CD-4774-8C78-23028471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9A3D-860C-42A4-AF99-63B96D367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054C-F3FE-4F0E-B4A9-70BDEA719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5823-F288-4AB9-A72A-9837F56D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D17F-8A1A-4C47-BFF0-D8B310D2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465A-02A9-4E67-995F-5E8C19D3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64DC-1A11-47B8-840A-05C6E9EA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4A83-3832-4FBB-9692-0081838A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6AC3-CFDE-4A13-B066-FFE6ED8B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9A9F-CD7B-4E38-9869-C01BE203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0640-69FC-4085-955E-1B6401CE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8ADA-4E5D-436D-9869-E5AD1634C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armela Cunso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rmela Cunso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Carmela Cunsolo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Carmela Cunsol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Carmela Cunsol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6705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228600" y="47242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31680" y="563868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657600"/>
            <a:ext cx="175284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Carmela. Vivo en New York. Tengo catorce anos. Tengo una hermana, Charlotte. Yo soy inteligente. Soy feliz y sympatica. Adios Amigas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-19080" y="5102280"/>
            <a:ext cx="64764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510228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63868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943600"/>
            <a:ext cx="543240" cy="7812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400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5181480"/>
            <a:ext cx="439560" cy="62892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486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s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64008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3T15:19:13Z</dcterms:modified>
  <cp:revision>103</cp:revision>
  <dc:subject/>
  <dc:title>Profile</dc:title>
</cp:coreProperties>
</file>